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12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915-40EC-409F-AE59-CEFC12F97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985-4359-4C7C-BAFA-7EAB11C4E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C8C-5BF7-4FC7-BD14-D810BA472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1BFA-C218-4F64-A785-9DB126C98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79D-64E3-4153-BE24-807BE8BD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D06-D532-41AB-885F-582673E9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740-3ECE-40E5-BA1A-AE8B3C95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BC0-4B66-4DC6-8E96-8EFD403F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A65-EC44-458A-BF84-E181D98C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66AE-A584-41BA-86DC-B8D830C7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283A-E8EB-4AB7-8060-77B36229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21B-5F42-4610-9D72-A89AB2A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4F5C-0BD5-4B54-9149-3C672AC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E146-0397-4220-B465-58E689A1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38D1-B5EA-4F40-88C2-77EA77C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8BF-905D-4743-9338-3F28046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6D0-D9C4-40B8-9ED5-3CE29A4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BF6-A859-438D-A1FD-129E1170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52A-871D-4E5A-B3E7-03070A75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52A3-3780-4AE0-8E61-61E80842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BD69-D467-4D72-B34A-9AE46123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2B5F-0EDA-40CF-939A-BBBD88E1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BE69-C895-4999-AF47-1FD73D50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7D47F-927E-4F50-AF0D-1FB7BB4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C9FFC-D123-4A65-8D92-73C1BD27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E662-1818-4F4A-8BEA-BE6CE152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913-059E-4ABE-8923-D2F8F4D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48D0F-7DFB-4065-80E6-7B234D3A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AE43-8573-4EA0-AA0C-FC87A70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A7E2-C738-49A8-8FA0-CA793A1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278A-B40A-46B3-BB56-1F6E7D3B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4DDF-B08A-4E58-B00D-F66F7A53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FC8A-09AB-493B-980D-1A3DFD00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305C-08AB-4277-9DA6-B8E915E0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35544-1BF9-4193-B79D-B4B33F0A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9C5DC-64D9-4A11-8C35-8F4B7589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877E-E290-4B21-931C-A2CE1974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24C-2293-4AF7-AE9F-8AEDAB1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416F9-CAA2-49C8-B7AA-C50BCE88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99EB-CE70-403E-A404-B0F6762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0F445-DB8C-4EA4-B7BC-0E4809E6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303B-7F7B-4DF0-9648-4FBEA2E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6DC0-3F9D-4368-B16A-84368DE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3E3E-FF5D-4FEA-B1BA-FB653AD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F266-024E-46D3-8F95-7DB6BAAE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15F9-CA0F-4020-816D-2D9B50B7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4E08-2DEC-47E6-8A7F-E7C5DFFC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BED-B36B-40A9-AD06-8A9F2297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4AE-3485-4517-A892-2B91641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13A-17D7-422E-B793-3D7C3007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C59-5260-429D-BB68-7FB025C0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D66-70C4-411C-9BB8-36E26E6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66E6-2038-4D00-801D-8883CB1FC8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494A-4A1A-499B-8803-18C34AEFF3A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9DC0-2DAE-4897-BE69-4F93A05F04E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182-F09F-462E-A0A8-204E4BAAE7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ikipedia.com/" TargetMode="External"/><Relationship Id="rId2" Type="http://schemas.openxmlformats.org/officeDocument/2006/relationships/hyperlink" Target="http://www.mathwork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21" descr=""/>
          <p:cNvPicPr/>
          <p:nvPr/>
        </p:nvPicPr>
        <p:blipFill>
          <a:blip r:embed="rId1"/>
          <a:stretch/>
        </p:blipFill>
        <p:spPr>
          <a:xfrm>
            <a:off x="523800" y="1073160"/>
            <a:ext cx="83282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Filters for sharpening 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high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04920" y="1676520"/>
                <a:ext cx="300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304920" y="3581280"/>
                <a:ext cx="2982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1"/>
              <p:cNvSpPr txBox="1"/>
              <p:nvPr/>
            </p:nvSpPr>
            <p:spPr>
              <a:xfrm>
                <a:off x="457200" y="5486400"/>
                <a:ext cx="312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5" name="Picture 12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3"/>
          <a:stretch/>
        </p:blipFill>
        <p:spPr>
          <a:xfrm>
            <a:off x="7238880" y="10666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4"/>
          <a:stretch/>
        </p:blipFill>
        <p:spPr>
          <a:xfrm>
            <a:off x="3733920" y="31240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5"/>
          <a:stretch/>
        </p:blipFill>
        <p:spPr>
          <a:xfrm>
            <a:off x="5486400" y="3124080"/>
            <a:ext cx="1697040" cy="167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6"/>
          <a:stretch/>
        </p:blipFill>
        <p:spPr>
          <a:xfrm>
            <a:off x="7238880" y="29718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"/>
          <p:cNvPicPr/>
          <p:nvPr/>
        </p:nvPicPr>
        <p:blipFill>
          <a:blip r:embed="rId7"/>
          <a:stretch/>
        </p:blipFill>
        <p:spPr>
          <a:xfrm>
            <a:off x="373392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"/>
          <p:cNvPicPr/>
          <p:nvPr/>
        </p:nvPicPr>
        <p:blipFill>
          <a:blip r:embed="rId8"/>
          <a:stretch/>
        </p:blipFill>
        <p:spPr>
          <a:xfrm>
            <a:off x="5486400" y="510552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"/>
          <p:cNvPicPr/>
          <p:nvPr/>
        </p:nvPicPr>
        <p:blipFill>
          <a:blip r:embed="rId9"/>
          <a:stretch/>
        </p:blipFill>
        <p:spPr>
          <a:xfrm>
            <a:off x="7238880" y="4952880"/>
            <a:ext cx="19051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High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240" y="13716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dge detection is performed here. The cells shape is visible clearly after  Gaussian high pass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original image                    high pass filtered image (Do=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3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15" descr="1.bmp.jpg"/>
          <p:cNvPicPr/>
          <p:nvPr/>
        </p:nvPicPr>
        <p:blipFill>
          <a:blip r:embed="rId1"/>
          <a:stretch/>
        </p:blipFill>
        <p:spPr>
          <a:xfrm>
            <a:off x="380880" y="3200400"/>
            <a:ext cx="383868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2.png"/>
          <p:cNvPicPr/>
          <p:nvPr/>
        </p:nvPicPr>
        <p:blipFill>
          <a:blip r:embed="rId2"/>
          <a:stretch/>
        </p:blipFill>
        <p:spPr>
          <a:xfrm>
            <a:off x="4800600" y="3200400"/>
            <a:ext cx="38098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Implementation Spatial domain filtering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directly on the pixels of an image, then is called Spatial Domain Filter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operation is performed 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put image by a suitable transf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ction we get the required outp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15" descr="Picture2.png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685800" y="4419720"/>
                <a:ext cx="3276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52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is a generalization of Unsharp Mask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harp Masking is simply a sharp image generated from blurred image of itself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igh Boost filtering generalizes this by multiplying f(x, y)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 constant A , amplification fa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ounded Rectangle 5"/>
          <p:cNvSpPr/>
          <p:nvPr/>
        </p:nvSpPr>
        <p:spPr>
          <a:xfrm>
            <a:off x="3352680" y="4648320"/>
            <a:ext cx="1600200" cy="5331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1905120" y="5486400"/>
                <a:ext cx="4465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2073240" y="2803680"/>
                <a:ext cx="423540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limUpp>
                      <m:e>
                        <m:r>
                          <m:t xml:space="preserve">f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patial (TIME) domain filtering through High Boost fil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, High-boost filtering gives us the flexibility to increase the contribution made by image to the enhanced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ginal image                  high pass image(Do=30)      high-boost image(A=2.5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F:\mini project\programs\spider1.jpg"/>
          <p:cNvPicPr/>
          <p:nvPr/>
        </p:nvPicPr>
        <p:blipFill>
          <a:blip r:embed="rId3"/>
          <a:stretch/>
        </p:blipFill>
        <p:spPr>
          <a:xfrm>
            <a:off x="380880" y="373392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Calibri"/>
              </a:rPr>
              <a:t>Application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edical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Satellite imaging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Material testing in industries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Fingerprint identification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nstantia"/>
              </a:rPr>
              <a:t>Printing and publishing industry.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dvantages &amp; Disadvantag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is simple and easy to imple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provides flexibility in the design of filtering solu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person needs knowledge in many fields to develop an application using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ise cannot be eliminated complete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us,  image enhancement techniques in frequency domain improves the  desired features of an image based on the requirements of the applications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nzalez and Woods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udra Pratap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Getting Started With Matlab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.Ramesh Babu, </a:t>
            </a:r>
            <a:r>
              <a:rPr b="0" lang="en-US" sz="2800" spc="-1" strike="noStrike">
                <a:solidFill>
                  <a:srgbClr val="c00000"/>
                </a:solidFill>
                <a:latin typeface="Constantia"/>
              </a:rPr>
              <a:t>Digital Image Process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www.wikipedia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2"/>
              </a:rPr>
              <a:t>www.mathwork.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Fourier transfor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s of Frequency -Domain filte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ic steps in Frequency-Domain filter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mooth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quency-Domain filters for sharpening of im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atial -Domain filtering through High Boost fil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vantages &amp; Disadvanta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lu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371600"/>
            <a:ext cx="8381880" cy="5486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mage Enhancemen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process of making an image more pleasable than the original imag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Why need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ise introduced in to the image, out-of focus , atmospheric conditions, latency of imaging hardw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lip_image002.jpg"/>
          <p:cNvPicPr/>
          <p:nvPr/>
        </p:nvPicPr>
        <p:blipFill>
          <a:blip r:embed="rId1"/>
          <a:stretch/>
        </p:blipFill>
        <p:spPr>
          <a:xfrm>
            <a:off x="2819520" y="2666880"/>
            <a:ext cx="38098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troduction to 2-D Fourier transfo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input image  f(x, y) is 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u=0,1,2…….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 v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nverse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D DFT of output image F(u , v) is given 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,  x=0,1,2…….M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 y=0,1,2……..N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1295280" y="2057400"/>
                <a:ext cx="62010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43000" y="5029200"/>
                <a:ext cx="62564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j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ux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asic steps in Frequency-Domain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2514600" y="1600200"/>
            <a:ext cx="3733920" cy="1371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ncludes multiplication of  input/output images by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  <a:ea typeface="宋体"/>
              </a:rPr>
              <a:t>(-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  <a:ea typeface="宋体"/>
              </a:rPr>
              <a:t>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7165800" cy="3102120"/>
          </a:xfrm>
          <a:prstGeom prst="rect">
            <a:avLst/>
          </a:prstGeom>
          <a:ln w="0">
            <a:noFill/>
          </a:ln>
        </p:spPr>
      </p:pic>
      <p:cxnSp>
        <p:nvCxnSpPr>
          <p:cNvPr id="215" name="Shape 16"/>
          <p:cNvCxnSpPr>
            <a:endCxn id="213" idx="2"/>
          </p:cNvCxnSpPr>
          <p:nvPr/>
        </p:nvCxnSpPr>
        <p:spPr>
          <a:xfrm flipH="1" flipV="1" rot="5400000">
            <a:off x="685440" y="2819160"/>
            <a:ext cx="2363040" cy="129600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6" name="Shape 18"/>
          <p:cNvCxnSpPr>
            <a:endCxn id="213" idx="6"/>
          </p:cNvCxnSpPr>
          <p:nvPr/>
        </p:nvCxnSpPr>
        <p:spPr>
          <a:xfrm flipV="1" rot="16200000">
            <a:off x="5905080" y="2628360"/>
            <a:ext cx="2286720" cy="1600920"/>
          </a:xfrm>
          <a:prstGeom prst="curvedConnector2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re and Post processing step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the spectrum origin is shifted to center  by multiplying  input  and output image with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宋体"/>
              </a:rPr>
              <a:t>(-1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  <a:ea typeface="宋体"/>
              </a:rPr>
              <a:t>x + 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9" descr="Picture6.png"/>
          <p:cNvPicPr/>
          <p:nvPr/>
        </p:nvPicPr>
        <p:blipFill>
          <a:blip r:embed="rId1"/>
          <a:stretch/>
        </p:blipFill>
        <p:spPr>
          <a:xfrm>
            <a:off x="685800" y="2590920"/>
            <a:ext cx="786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ypes of Frequency-Domain Filter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Content Placeholder 3" descr=""/>
          <p:cNvPicPr/>
          <p:nvPr/>
        </p:nvPicPr>
        <p:blipFill>
          <a:blip r:embed="rId1"/>
          <a:stretch/>
        </p:blipFill>
        <p:spPr>
          <a:xfrm>
            <a:off x="60480" y="1670040"/>
            <a:ext cx="89503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requency-Domain  Filters for Smoothing of imag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al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utterworth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aussian Low pass filt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88800" y="1676520"/>
                <a:ext cx="2725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  if </m:t>
                              </m:r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,</m:t>
                              </m:r>
                              <m:r>
                                <m:t xml:space="preserve">v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380880" y="3581280"/>
                <a:ext cx="2590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457200" y="5638680"/>
                <a:ext cx="3108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7" name="Picture 7" descr="11.png"/>
          <p:cNvPicPr/>
          <p:nvPr/>
        </p:nvPicPr>
        <p:blipFill>
          <a:blip r:embed="rId1"/>
          <a:stretch/>
        </p:blipFill>
        <p:spPr>
          <a:xfrm>
            <a:off x="3581280" y="1219320"/>
            <a:ext cx="1676520" cy="161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12.png"/>
          <p:cNvPicPr/>
          <p:nvPr/>
        </p:nvPicPr>
        <p:blipFill>
          <a:blip r:embed="rId2"/>
          <a:stretch/>
        </p:blipFill>
        <p:spPr>
          <a:xfrm>
            <a:off x="5486400" y="12952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13.png"/>
          <p:cNvPicPr/>
          <p:nvPr/>
        </p:nvPicPr>
        <p:blipFill>
          <a:blip r:embed="rId3"/>
          <a:stretch/>
        </p:blipFill>
        <p:spPr>
          <a:xfrm>
            <a:off x="7467480" y="121932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21.png"/>
          <p:cNvPicPr/>
          <p:nvPr/>
        </p:nvPicPr>
        <p:blipFill>
          <a:blip r:embed="rId4"/>
          <a:stretch/>
        </p:blipFill>
        <p:spPr>
          <a:xfrm>
            <a:off x="3581280" y="32004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22.png"/>
          <p:cNvPicPr/>
          <p:nvPr/>
        </p:nvPicPr>
        <p:blipFill>
          <a:blip r:embed="rId5"/>
          <a:stretch/>
        </p:blipFill>
        <p:spPr>
          <a:xfrm>
            <a:off x="5486400" y="3200400"/>
            <a:ext cx="1905120" cy="1832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23.png"/>
          <p:cNvPicPr/>
          <p:nvPr/>
        </p:nvPicPr>
        <p:blipFill>
          <a:blip r:embed="rId6"/>
          <a:stretch/>
        </p:blipFill>
        <p:spPr>
          <a:xfrm>
            <a:off x="7391520" y="312408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31.png"/>
          <p:cNvPicPr/>
          <p:nvPr/>
        </p:nvPicPr>
        <p:blipFill>
          <a:blip r:embed="rId7"/>
          <a:stretch/>
        </p:blipFill>
        <p:spPr>
          <a:xfrm>
            <a:off x="3505320" y="510552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32.png"/>
          <p:cNvPicPr/>
          <p:nvPr/>
        </p:nvPicPr>
        <p:blipFill>
          <a:blip r:embed="rId8"/>
          <a:stretch/>
        </p:blipFill>
        <p:spPr>
          <a:xfrm>
            <a:off x="5486400" y="51814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5" descr="33.png"/>
          <p:cNvPicPr/>
          <p:nvPr/>
        </p:nvPicPr>
        <p:blipFill>
          <a:blip r:embed="rId9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xample of Gaussian Low pass filterin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宋体"/>
              </a:rPr>
              <a:t>Character recognition in machine perception join the broken character segments with a Gaussian low pass filter with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nstantia"/>
                <a:ea typeface="宋体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=8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489480" cy="360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47976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2:47:38Z</dcterms:created>
  <dc:creator>Electronics Projects</dc:creator>
  <dc:description>Electronics Projects</dc:description>
  <dc:language>en-US</dc:language>
  <cp:lastModifiedBy>Brigade</cp:lastModifiedBy>
  <dcterms:modified xsi:type="dcterms:W3CDTF">2011-08-26T11:08:43Z</dcterms:modified>
  <cp:revision>0</cp:revision>
  <dc:subject>Electronics Projects</dc:subject>
  <dc:title>ECE IEEE Projects</dc:title>
</cp:coreProperties>
</file>